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599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31088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599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31088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7543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992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310880" y="160020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2093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75992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310880" y="4187160"/>
            <a:ext cx="2428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09320" y="304560"/>
            <a:ext cx="7543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75000" y="418716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75000" y="1600200"/>
            <a:ext cx="3681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1871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8762400" y="5715000"/>
            <a:ext cx="1143000" cy="1143000"/>
          </a:xfrm>
          <a:prstGeom prst="rtTriangle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00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44000" y="6629400"/>
            <a:ext cx="76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- </a:t>
            </a:r>
            <a:fld id="{28FAAF48-7225-415E-8A12-B7AFB2C1C4D9}" type="slidenum">
              <a:rPr b="1" i="1" lang="en-US" sz="9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940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BC21-0FAB-44EE-B3E0-4751D5FA41B1}" type="datetime">
              <a:rPr b="1" i="1" lang="en-US" sz="900" spc="-1" strike="noStrike">
                <a:solidFill>
                  <a:srgbClr val="ffcf00"/>
                </a:solidFill>
                <a:latin typeface="Arial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invers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1600200" cy="2700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52280" y="762120"/>
            <a:ext cx="1828800" cy="7596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553080"/>
            <a:ext cx="1828800" cy="7632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 rot="18900000">
            <a:off x="8503560" y="6126120"/>
            <a:ext cx="16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1822 S iNFORM Software GmbH</a:t>
            </a:r>
            <a:br>
              <a:rPr sz="800"/>
            </a:b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© Copyrigh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00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629400"/>
            <a:ext cx="198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81DA-3F07-4EA9-99B6-E5F7AD2E0766}" type="datetime">
              <a:rPr b="1" i="1" lang="en-US" sz="900" spc="-1" strike="noStrike">
                <a:solidFill>
                  <a:srgbClr val="ffcf00"/>
                </a:solidFill>
                <a:latin typeface="Arial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oinvers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1600200" cy="27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762120"/>
            <a:ext cx="1828800" cy="7596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6553080"/>
            <a:ext cx="1828800" cy="76320"/>
          </a:xfrm>
          <a:prstGeom prst="rect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760600" y="5715000"/>
            <a:ext cx="1143000" cy="1143000"/>
          </a:xfrm>
          <a:prstGeom prst="rtTriangle">
            <a:avLst/>
          </a:prstGeom>
          <a:solidFill>
            <a:srgbClr val="ff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2560" y="6629400"/>
            <a:ext cx="76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- </a:t>
            </a:r>
            <a:fld id="{E066D656-6825-4E5B-9104-F368A55EA380}" type="slidenum">
              <a:rPr b="1" i="1" lang="en-US" sz="900" spc="-1" strike="noStrike">
                <a:solidFill>
                  <a:srgbClr val="00007f"/>
                </a:solidFill>
                <a:latin typeface="Arial"/>
              </a:rPr>
              <a:t>&lt;number&gt;</a:t>
            </a:fld>
            <a:r>
              <a:rPr b="1" i="1" lang="en-US" sz="900" spc="-1" strike="noStrike">
                <a:solidFill>
                  <a:srgbClr val="00007f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rot="18900000">
            <a:off x="8503560" y="6126120"/>
            <a:ext cx="167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1822 S iNFORM Software GmbH</a:t>
            </a:r>
            <a:br>
              <a:rPr sz="800"/>
            </a:br>
            <a:r>
              <a:rPr b="1" i="1" lang="de-DE" sz="800" spc="-1" strike="noStrike">
                <a:solidFill>
                  <a:srgbClr val="00007f"/>
                </a:solidFill>
                <a:latin typeface="Arial"/>
              </a:rPr>
              <a:t>© Copyright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Vertrieb" descr=""/>
          <p:cNvPicPr/>
          <p:nvPr/>
        </p:nvPicPr>
        <p:blipFill>
          <a:blip r:embed="rId1"/>
          <a:stretch/>
        </p:blipFill>
        <p:spPr>
          <a:xfrm>
            <a:off x="304920" y="4127400"/>
            <a:ext cx="2743200" cy="1644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OSP Vertrieb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09320" y="22096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e Smalltalk-Anwendung im Flächeneinsatz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ürgen Buchn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822 S iNFORM Software GmbH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oethering 58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63067 Offenb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Juergen.Buchner@1822-s-inform.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http://www.1822-s-inform.de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8180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3440160" cy="849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809880" y="2971800"/>
            <a:ext cx="305604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6453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460044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62600" cy="41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Was ist OSP Vertrieb?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triebs- und Marketingsoftware für Sparkas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enneuanl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ktverkau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en über Kunden und Verträ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 änd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fgabensystem (Jav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ung und Durchführung von Marketingak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2936880" cy="2408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5427720" cy="4264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3809880" y="2514600"/>
            <a:ext cx="2936880" cy="2408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809880" y="2514600"/>
            <a:ext cx="293688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124080" y="1752480"/>
            <a:ext cx="493740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Benutzer von OSP Vertrieb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SP Vertrieb ist derzeit bei ca. 40 Sparkassen im Einsatz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ößte Sparkasse ist die Frankfurter Sparkasse mit ca. 2000 Benutzer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satz in bei weiteren Sparkassen in Hessen, Nordrhein-Westfalen, Rheinland-Pfalz und Baden-Württemberg gepl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579132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629604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542772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Anschluss an den Host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lle „juristischen Daten“ werden auf den Hostsystemen der Sparkassen Informatik gehal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ugriff auf diese Daten erfolgt über proprietäre Schnittstelle „PMS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chtzeitzugriff“ auf Salden, Umsätze us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62946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Ausblick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mplettierung der Geschäftsprozesse (z.B. Vertrag änder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bindung von „Verbundpartnern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services in Small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Jobs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1219320"/>
            <a:ext cx="7772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 suchen für unseren Bereich Objektorientierte Client/Server Anwendung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ware-Ingenieure (m/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individuelle Softwareentwicklungen im Bereich Finanzdienstleistungen, mit Berufserfahrung oder als Hochschulabsolv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ben wir Ihr Interesse geweckt? Über Details tauschen wir uns gerne persönlich mit Ihnen aus. Überzeugen Sie uns von Ihrer Qualifikation durch eine aussagefähige Bewerbung unter Angabe Ihres frühestmöglichen Eintrittsterm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1822 S iNFORM Software GmbH </a:t>
            </a:r>
            <a:r>
              <a:rPr b="0" i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Goethering 58 </a:t>
            </a:r>
            <a:r>
              <a:rPr b="0" i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63067 Offenbach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Telefon (069) 829749-0 </a:t>
            </a:r>
            <a:r>
              <a:rPr b="0" i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Telefax (069) 829749-1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ww.1822-s-inform.d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zentrale Datenbank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racle-Datenbank auf dem OSP Vertrieb 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peicher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eiche Daten“: Hobbys, Akquisitionsansätze, .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dministrationsdaten: Produktdefinitionen, Organisationsstruktur,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elektions-DB für Marketingaktio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Aufgabensystem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 Java implementie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TML Benutzungsoberflä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ährende des „Jav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ypes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 entstande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inbettung in Smalltalk über OLE-Steu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CP-IP Rückka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Implementierung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M VisualAge Smalltal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. 4.700 Klas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. 50.000 Metho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: 5-10 Smalltalk-Entwick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6095880" y="2362320"/>
            <a:ext cx="3429000" cy="1523880"/>
            <a:chOff x="6095880" y="2362320"/>
            <a:chExt cx="3429000" cy="1523880"/>
          </a:xfrm>
        </p:grpSpPr>
        <p:sp>
          <p:nvSpPr>
            <p:cNvPr id="110" name=""/>
            <p:cNvSpPr/>
            <p:nvPr/>
          </p:nvSpPr>
          <p:spPr>
            <a:xfrm>
              <a:off x="6095880" y="2895480"/>
              <a:ext cx="3429000" cy="838440"/>
            </a:xfrm>
            <a:prstGeom prst="rect">
              <a:avLst/>
            </a:prstGeom>
            <a:solidFill>
              <a:srgbClr val="79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5880" y="3429000"/>
              <a:ext cx="342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WebSphere Application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6781680" y="2971800"/>
              <a:ext cx="1520640" cy="304560"/>
              <a:chOff x="6781680" y="2971800"/>
              <a:chExt cx="1520640" cy="304560"/>
            </a:xfrm>
          </p:grpSpPr>
          <p:sp>
            <p:nvSpPr>
              <p:cNvPr id="113" name=""/>
              <p:cNvSpPr/>
              <p:nvPr/>
            </p:nvSpPr>
            <p:spPr>
              <a:xfrm>
                <a:off x="6783120" y="2971800"/>
                <a:ext cx="1519200" cy="30456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81680" y="2971800"/>
                <a:ext cx="1492200" cy="27648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S-Vertrieb We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6095880" y="2743200"/>
              <a:ext cx="3429000" cy="152280"/>
            </a:xfrm>
            <a:prstGeom prst="rect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41040" y="266688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5880" y="3733920"/>
              <a:ext cx="3429000" cy="152280"/>
            </a:xfrm>
            <a:prstGeom prst="rect">
              <a:avLst/>
            </a:prstGeom>
            <a:solidFill>
              <a:srgbClr val="3d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43800" y="2362320"/>
              <a:ext cx="0" cy="38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09680" y="2362320"/>
            <a:ext cx="3429000" cy="1523880"/>
            <a:chOff x="2209680" y="2362320"/>
            <a:chExt cx="3429000" cy="1523880"/>
          </a:xfrm>
        </p:grpSpPr>
        <p:sp>
          <p:nvSpPr>
            <p:cNvPr id="120" name=""/>
            <p:cNvSpPr/>
            <p:nvPr/>
          </p:nvSpPr>
          <p:spPr>
            <a:xfrm>
              <a:off x="2209680" y="2895480"/>
              <a:ext cx="3429000" cy="838440"/>
            </a:xfrm>
            <a:prstGeom prst="rect">
              <a:avLst/>
            </a:prstGeom>
            <a:solidFill>
              <a:srgbClr val="79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3429000"/>
              <a:ext cx="342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S-Vertrieb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743200"/>
              <a:ext cx="3429000" cy="152280"/>
            </a:xfrm>
            <a:prstGeom prst="rect">
              <a:avLst/>
            </a:prstGeom>
            <a:solidFill>
              <a:srgbClr val="b7b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666880"/>
              <a:ext cx="50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3733920"/>
              <a:ext cx="3429000" cy="152280"/>
            </a:xfrm>
            <a:prstGeom prst="rect">
              <a:avLst/>
            </a:prstGeom>
            <a:solidFill>
              <a:srgbClr val="3d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09880" y="2362320"/>
              <a:ext cx="0" cy="38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Systemarchitektur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09680" y="5410080"/>
            <a:ext cx="1447920" cy="459000"/>
            <a:chOff x="2209680" y="5410080"/>
            <a:chExt cx="1447920" cy="459000"/>
          </a:xfrm>
        </p:grpSpPr>
        <p:sp>
          <p:nvSpPr>
            <p:cNvPr id="128" name=""/>
            <p:cNvSpPr/>
            <p:nvPr/>
          </p:nvSpPr>
          <p:spPr>
            <a:xfrm>
              <a:off x="2209680" y="541008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0400" y="563868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09680" y="541008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Marketing-batch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09680" y="1523880"/>
            <a:ext cx="7404120" cy="886320"/>
            <a:chOff x="2209680" y="1523880"/>
            <a:chExt cx="7404120" cy="886320"/>
          </a:xfrm>
        </p:grpSpPr>
        <p:sp>
          <p:nvSpPr>
            <p:cNvPr id="132" name=""/>
            <p:cNvSpPr/>
            <p:nvPr/>
          </p:nvSpPr>
          <p:spPr>
            <a:xfrm>
              <a:off x="2209680" y="1523880"/>
              <a:ext cx="7315200" cy="838440"/>
            </a:xfrm>
            <a:prstGeom prst="rect">
              <a:avLst/>
            </a:prstGeom>
            <a:solidFill>
              <a:srgbClr val="d5d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2760" y="2133720"/>
              <a:ext cx="13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-Vertrieb 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048120" y="1600200"/>
              <a:ext cx="1523520" cy="685080"/>
              <a:chOff x="3048120" y="1600200"/>
              <a:chExt cx="1523520" cy="685080"/>
            </a:xfrm>
          </p:grpSpPr>
          <p:sp>
            <p:nvSpPr>
              <p:cNvPr id="135" name=""/>
              <p:cNvSpPr/>
              <p:nvPr/>
            </p:nvSpPr>
            <p:spPr>
              <a:xfrm>
                <a:off x="3049560" y="1600200"/>
                <a:ext cx="1522080" cy="68508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8120" y="1600200"/>
                <a:ext cx="1495800" cy="641520"/>
              </a:xfrm>
              <a:prstGeom prst="rect">
                <a:avLst/>
              </a:prstGeom>
              <a:solidFill>
                <a:srgbClr val="ffe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Smalltal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Sales, Marketing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Administ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2743200" y="3657600"/>
            <a:ext cx="1828800" cy="2438280"/>
            <a:chOff x="2743200" y="3657600"/>
            <a:chExt cx="1828800" cy="2438280"/>
          </a:xfrm>
        </p:grpSpPr>
        <p:sp>
          <p:nvSpPr>
            <p:cNvPr id="138" name=""/>
            <p:cNvSpPr/>
            <p:nvPr/>
          </p:nvSpPr>
          <p:spPr>
            <a:xfrm>
              <a:off x="3657600" y="5181480"/>
              <a:ext cx="838080" cy="9144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81280" y="5410080"/>
              <a:ext cx="99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S-Vertrieb-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(Orac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3200" y="365760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SQ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71800" y="3886200"/>
              <a:ext cx="114300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114800" y="3657600"/>
            <a:ext cx="3200400" cy="1523880"/>
            <a:chOff x="4114800" y="3657600"/>
            <a:chExt cx="3200400" cy="1523880"/>
          </a:xfrm>
        </p:grpSpPr>
        <p:sp>
          <p:nvSpPr>
            <p:cNvPr id="143" name=""/>
            <p:cNvSpPr/>
            <p:nvPr/>
          </p:nvSpPr>
          <p:spPr>
            <a:xfrm>
              <a:off x="6629400" y="36576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JD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14800" y="3886200"/>
              <a:ext cx="281952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619760" y="3657600"/>
            <a:ext cx="1600560" cy="762120"/>
            <a:chOff x="7619760" y="3657600"/>
            <a:chExt cx="1600560" cy="762120"/>
          </a:xfrm>
        </p:grpSpPr>
        <p:sp>
          <p:nvSpPr>
            <p:cNvPr id="146" name=""/>
            <p:cNvSpPr/>
            <p:nvPr/>
          </p:nvSpPr>
          <p:spPr>
            <a:xfrm>
              <a:off x="8305920" y="36576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C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619760" y="3886200"/>
              <a:ext cx="1143000" cy="533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076640" y="4876920"/>
            <a:ext cx="4686480" cy="1724040"/>
            <a:chOff x="4076640" y="4876920"/>
            <a:chExt cx="4686480" cy="1724040"/>
          </a:xfrm>
        </p:grpSpPr>
        <p:sp>
          <p:nvSpPr>
            <p:cNvPr id="149" name=""/>
            <p:cNvSpPr/>
            <p:nvPr/>
          </p:nvSpPr>
          <p:spPr>
            <a:xfrm>
              <a:off x="4724280" y="59436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487692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487692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IDV Data Ware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72400" y="548640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72400" y="5486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Anlass- gene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72400" y="6095880"/>
              <a:ext cx="990720" cy="457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72400" y="609588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ffec33"/>
                  </a:solidFill>
                  <a:latin typeface="Arial"/>
                </a:rPr>
                <a:t>Aufgaben- gener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/>
            <p:nvPr/>
          </p:nvCxnSpPr>
          <p:spPr>
            <a:xfrm flipH="1" flipV="1" rot="5400000">
              <a:off x="5501160" y="4624560"/>
              <a:ext cx="46800" cy="2896560"/>
            </a:xfrm>
            <a:prstGeom prst="curvedConnector5">
              <a:avLst>
                <a:gd name="adj1" fmla="val -496124"/>
                <a:gd name="adj2" fmla="val 49993"/>
                <a:gd name="adj3" fmla="val -496124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5" idx="1"/>
              <a:endCxn id="158" idx="3"/>
            </p:cNvCxnSpPr>
            <p:nvPr/>
          </p:nvCxnSpPr>
          <p:spPr>
            <a:xfrm rot="10800000">
              <a:off x="6971760" y="6095160"/>
              <a:ext cx="800640" cy="229320"/>
            </a:xfrm>
            <a:prstGeom prst="curvedConnector2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2"/>
              <a:endCxn id="153" idx="0"/>
            </p:cNvCxnSpPr>
            <p:nvPr/>
          </p:nvCxnSpPr>
          <p:spPr>
            <a:xfrm>
              <a:off x="8267400" y="5333760"/>
              <a:ext cx="1080" cy="15300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3" idx="2"/>
              <a:endCxn id="155" idx="0"/>
            </p:cNvCxnSpPr>
            <p:nvPr/>
          </p:nvCxnSpPr>
          <p:spPr>
            <a:xfrm>
              <a:off x="8267400" y="5943240"/>
              <a:ext cx="1080" cy="153000"/>
            </a:xfrm>
            <a:prstGeom prst="straightConnector1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34320" y="632448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Aufga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391520" y="5105160"/>
              <a:ext cx="3808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495680" y="3657600"/>
            <a:ext cx="3581640" cy="2438280"/>
            <a:chOff x="4495680" y="3657600"/>
            <a:chExt cx="3581640" cy="2438280"/>
          </a:xfrm>
        </p:grpSpPr>
        <p:sp>
          <p:nvSpPr>
            <p:cNvPr id="164" name=""/>
            <p:cNvSpPr/>
            <p:nvPr/>
          </p:nvSpPr>
          <p:spPr>
            <a:xfrm>
              <a:off x="5867280" y="4419720"/>
              <a:ext cx="2210040" cy="304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3080" y="5181480"/>
              <a:ext cx="838440" cy="9144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5410080"/>
              <a:ext cx="990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Zentrale Da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(DB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7280" y="441972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Dynamische Schnittst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5680" y="36576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ec33"/>
                  </a:solidFill>
                  <a:latin typeface="Arial"/>
                </a:rPr>
                <a:t>P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0600" y="3886200"/>
              <a:ext cx="1676520" cy="533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934320" y="472428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962520" y="2361960"/>
            <a:ext cx="2133360" cy="609480"/>
            <a:chOff x="3962520" y="2361960"/>
            <a:chExt cx="2133360" cy="609480"/>
          </a:xfrm>
        </p:grpSpPr>
        <p:sp>
          <p:nvSpPr>
            <p:cNvPr id="171" name=""/>
            <p:cNvSpPr/>
            <p:nvPr/>
          </p:nvSpPr>
          <p:spPr>
            <a:xfrm flipH="1" flipV="1">
              <a:off x="3962520" y="2361960"/>
              <a:ext cx="213336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14800" y="243828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T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572000" y="1600200"/>
            <a:ext cx="3809880" cy="685800"/>
            <a:chOff x="4572000" y="1600200"/>
            <a:chExt cx="3809880" cy="685800"/>
          </a:xfrm>
        </p:grpSpPr>
        <p:sp>
          <p:nvSpPr>
            <p:cNvPr id="174" name=""/>
            <p:cNvSpPr/>
            <p:nvPr/>
          </p:nvSpPr>
          <p:spPr>
            <a:xfrm>
              <a:off x="6794640" y="1600200"/>
              <a:ext cx="1498320" cy="685800"/>
            </a:xfrm>
            <a:prstGeom prst="rect">
              <a:avLst/>
            </a:prstGeom>
            <a:solidFill>
              <a:srgbClr val="ffec33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05720" y="1600200"/>
              <a:ext cx="167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1981080"/>
              <a:ext cx="2209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175248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O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418640" y="4893120"/>
            <a:ext cx="2895840" cy="336240"/>
            <a:chOff x="4418640" y="4893120"/>
            <a:chExt cx="2895840" cy="336240"/>
          </a:xfrm>
        </p:grpSpPr>
        <p:cxnSp>
          <p:nvCxnSpPr>
            <p:cNvPr id="179" name=""/>
            <p:cNvCxnSpPr/>
            <p:nvPr/>
          </p:nvCxnSpPr>
          <p:spPr>
            <a:xfrm flipH="1" flipV="1" rot="5400000">
              <a:off x="5843160" y="3756240"/>
              <a:ext cx="46800" cy="2896200"/>
            </a:xfrm>
            <a:prstGeom prst="curvedConnector5">
              <a:avLst>
                <a:gd name="adj1" fmla="val 720155"/>
                <a:gd name="adj2" fmla="val 50000"/>
                <a:gd name="adj3" fmla="val 720155"/>
              </a:avLst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5104080" y="4952880"/>
              <a:ext cx="136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7f"/>
                  </a:solidFill>
                  <a:latin typeface="Arial"/>
                </a:rPr>
                <a:t>Stat. Schnittst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f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00007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6724440" cy="517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0:08:28Z</dcterms:created>
  <dc:creator>LOTHAR</dc:creator>
  <dc:description/>
  <dc:language>en-US</dc:language>
  <cp:lastModifiedBy>Dr. J. Buchner</cp:lastModifiedBy>
  <cp:lastPrinted>2001-12-06T08:21:28Z</cp:lastPrinted>
  <dcterms:modified xsi:type="dcterms:W3CDTF">2002-04-11T13:58:18Z</dcterms:modified>
  <cp:revision>308</cp:revision>
  <dc:subject/>
  <dc:title>Kein Folientitel</dc:title>
</cp:coreProperties>
</file>